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B1D-A5D2-43CD-A112-3D3E3963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EAE-266D-4CC2-ABA3-F327B4C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7FE-6BFE-4BB1-9374-A4FF384C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65-6DDB-4607-B497-72F6A612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D32-EBD4-4851-B238-1CA37005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5E7-D0E7-41D8-81CB-0120DA8C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70C-1C5B-4831-B498-643CB26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F6F-77B3-4CBB-903F-2E8221E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35E-90AE-469D-8CE9-8D5DBBA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011-377E-44E3-AD9A-9D85C2D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2B5-AF3B-427A-910A-9CC4A1C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15B-6415-466F-B5C5-F97CF38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11B8-AD7C-451A-A7DB-20EEF1174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5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9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0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1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09640" y="333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"/>
              </a:rPr>
              <a:t>Выполни гимнастику для глаз по схеме: 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4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476360" y="3362400"/>
            <a:ext cx="431640" cy="712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7761240" y="4159080"/>
            <a:ext cx="50472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5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62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0.70868 0.10972 E">
                                      <p:cBhvr>
                                        <p:cTn id="68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-0.75434 0.1875 E">
                                      <p:cBhvr>
                                        <p:cTn id="74" dur="4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1476360" y="345960"/>
            <a:ext cx="6120000" cy="6120000"/>
          </a:xfrm>
          <a:prstGeom prst="ellips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Oval 3"/>
          <p:cNvSpPr/>
          <p:nvPr/>
        </p:nvSpPr>
        <p:spPr>
          <a:xfrm>
            <a:off x="7667640" y="2421000"/>
            <a:ext cx="431640" cy="431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6 -0.33611 C -0.18403 -0.33611 -0.03264 -0.1368 -0.03264 0.10972 C -0.03264 0.35556 -0.18403 0.55556 -0.36806 0.55556 C -0.55243 0.55556 -0.70191 0.35556 -0.70191 0.10972 C -0.70191 -0.1368 -0.55243 -0.33611 -0.36806 -0.33611 Z">
                                      <p:cBhvr>
                                        <p:cTn id="83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524 -0.33611 -0.03489 -0.13727 -0.03489 0.10903 C -0.03489 0.35463 -0.18524 0.55625 -0.36805 0.55625 C -0.55121 0.55625 -0.69965 0.35463 -0.69965 0.10903 C -0.69965 -0.13727 -0.55121 -0.33611 -0.36805 -0.33611 Z">
                                      <p:cBhvr>
                                        <p:cTn id="8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75 -0.33611 -0.03871 -0.13634 -0.03871 0.10972 C -0.03871 0.35602 -0.1875 0.55625 -0.36805 0.55625 C -0.55052 0.55625 -0.69739 0.35602 -0.69739 0.10972 C -0.69739 -0.13634 -0.55052 -0.33611 -0.36805 -0.33611 Z">
                                      <p:cBhvr>
                                        <p:cTn id="89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628 -0.33611 -0.03767 -0.13634 -0.03767 0.10996 C -0.03767 0.35602 -0.18628 0.55625 -0.36805 0.55625 C -0.55 0.55625 -0.69722 0.35602 -0.69722 0.10996 C -0.69722 -0.13634 -0.55 -0.33611 -0.36805 -0.33611 Z">
                                      <p:cBhvr>
                                        <p:cTn id="92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576 -0.33611 -0.03732 -0.13657 -0.03732 0.10972 C -0.03732 0.35602 -0.18576 0.55625 -0.36805 0.55625 C -0.55 0.55625 -0.69757 0.35602 -0.69757 0.10972 C -0.69757 -0.13657 -0.55 -0.33611 -0.36805 -0.33611 Z">
                                      <p:cBhvr>
                                        <p:cTn id="95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35 -0.33611 -0.03333 -0.13634 -0.03333 0.10995 C -0.03333 0.35602 -0.1835 0.55648 -0.36805 0.55648 C -0.5526 0.55648 -0.7026 0.35602 -0.7026 0.10995 C -0.7026 -0.13634 -0.5526 -0.33611 -0.36805 -0.33611 Z">
                                      <p:cBhvr>
                                        <p:cTn id="98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3"/>
          <p:cNvSpPr/>
          <p:nvPr/>
        </p:nvSpPr>
        <p:spPr>
          <a:xfrm>
            <a:off x="395280" y="3068640"/>
            <a:ext cx="431640" cy="43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632 4.81481E-006 L -2.77778E-007 4.81481E-006 E">
                                      <p:cBhvr>
                                        <p:cTn id="10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642 4.81481E-006 L -2.77778E-007 4.81481E-006 E">
                                      <p:cBhvr>
                                        <p:cTn id="10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85833 4.81481E-006 E">
                                      <p:cBhvr>
                                        <p:cTn id="11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833 4.81481E-006 L -2.77778E-007 4.81481E-006 E">
                                      <p:cBhvr>
                                        <p:cTn id="115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85052 4.81481E-006 E">
                                      <p:cBhvr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833 4.81481E-006 L -2.77778E-007 4.81481E-006 E">
                                      <p:cBhvr>
                                        <p:cTn id="12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3"/>
          <p:cNvSpPr/>
          <p:nvPr/>
        </p:nvSpPr>
        <p:spPr>
          <a:xfrm>
            <a:off x="4211640" y="333360"/>
            <a:ext cx="431640" cy="4316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3982 E">
                                      <p:cBhvr>
                                        <p:cTn id="127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2.59259E-006 E">
                                      <p:cBhvr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32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3982 E">
                                      <p:cBhvr>
                                        <p:cTn id="133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2.59259E-006 E">
                                      <p:cBhvr>
                                        <p:cTn id="136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38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294 E">
                                      <p:cBhvr>
                                        <p:cTn id="139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0.01065 E">
                                      <p:cBhvr>
                                        <p:cTn id="142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C 0.00052 -0.11644 0.09358 -0.21181 0.20677 -0.21181 C 0.3401 -0.21181 0.38854 -0.10579 0.40851 -0.04236 L 0.42917 0.04236 C 0.45035 0.10578 0.50156 0.21111 0.65295 0.21111 C 0.74896 0.21111 0.85816 0.1162 0.85833 2.96296E-006 C 0.85833 -0.11644 0.74896 -0.21181 0.65295 -0.21181 C 0.50156 -0.21181 0.45035 -0.10579 0.42917 -0.04236 L 0.40851 0.04236 C 0.38854 0.10486 0.34028 0.21111 0.20764 0.21111 C 0.09358 0.21111 1.11111E-006 0.1162 1.11111E-006 2.96296E-006 Z">
                                      <p:cBhvr>
                                        <p:cTn id="148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pat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1.11111E-006 0.11922 0.09288 0.21783 0.20608 0.21783 C 0.33976 0.21783 0.38802 0.1088 0.40816 0.0426 L 0.42917 -0.04421 C 0.45 -0.10949 0.50121 -0.21689 0.65208 -0.21689 C 0.74861 -0.21689 0.85833 -0.1206 0.85833 -4.44444E-006 C 0.85833 0.11922 0.74861 0.21783 0.65208 0.21783 C 0.50121 0.21783 0.45 0.1088 0.42917 0.0426 L 0.40816 -0.04421 C 0.38802 -0.10949 0.33976 -0.21689 0.20608 -0.21689 C 0.09288 -0.21689 1.11111E-006 -0.1206 1.11111E-006 -4.44444E-006 Z">
                                      <p:cBhvr>
                                        <p:cTn id="151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pat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C 1.11111E-006 0.12222 0.09288 0.22129 0.20608 0.22129 C 0.33976 0.22129 0.38802 0.11111 0.40816 0.04398 L 0.42917 -0.04398 C 0.45 -0.11065 0.50121 -0.22014 0.65208 -0.22014 C 0.74861 -0.22014 0.85833 -0.12176 0.85833 2.96296E-006 C 0.85833 0.12222 0.74861 0.22129 0.65208 0.22129 C 0.50121 0.22129 0.45 0.11111 0.42917 0.04398 L 0.40816 -0.04398 C 0.38802 -0.11065 0.33976 -0.22014 0.20608 -0.22014 C 0.09288 -0.22014 1.11111E-006 -0.12176 1.11111E-006 2.96296E-006 Z">
                                      <p:cBhvr>
                                        <p:cTn id="154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68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69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0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1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2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3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4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5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6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7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8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9" name="Group 57"/>
          <p:cNvGrpSpPr/>
          <p:nvPr/>
        </p:nvGrpSpPr>
        <p:grpSpPr>
          <a:xfrm>
            <a:off x="419040" y="4750920"/>
            <a:ext cx="1369800" cy="1356120"/>
            <a:chOff x="419040" y="4750920"/>
            <a:chExt cx="1369800" cy="1356120"/>
          </a:xfrm>
        </p:grpSpPr>
        <p:sp>
          <p:nvSpPr>
            <p:cNvPr id="80" name="AutoShape 58"/>
            <p:cNvSpPr/>
            <p:nvPr/>
          </p:nvSpPr>
          <p:spPr>
            <a:xfrm>
              <a:off x="600120" y="49608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1" name="AutoShape 59"/>
            <p:cNvSpPr/>
            <p:nvPr/>
          </p:nvSpPr>
          <p:spPr>
            <a:xfrm rot="2241600">
              <a:off x="599760" y="49604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2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3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4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5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6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7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8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89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0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1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2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3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4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5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6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893 -0.28866 0.30087 -0.1169 0.30087 0.09421 C 0.30087 0.30532 0.16893 0.47777 0.00764 0.47777 C -0.15364 0.47777 -0.2842 0.30532 -0.2842 0.09421 C -0.2842 -0.1169 -0.15364 -0.28866 0.00764 -0.28866 Z">
                                      <p:cBhvr>
                                        <p:cTn id="319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927 -0.28866 0.30139 -0.11667 0.30139 0.09444 C 0.30139 0.30601 0.16927 0.47777 0.00764 0.47777 C -0.15382 0.47777 -0.28455 0.30601 -0.28455 0.09444 C -0.28455 -0.11667 -0.15382 -0.28866 0.00764 -0.28866 Z">
                                      <p:cBhvr>
                                        <p:cTn id="3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98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9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331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7"/>
          <p:cNvGrpSpPr/>
          <p:nvPr/>
        </p:nvGrpSpPr>
        <p:grpSpPr>
          <a:xfrm>
            <a:off x="7343640" y="1850760"/>
            <a:ext cx="1369800" cy="1356120"/>
            <a:chOff x="7343640" y="1850760"/>
            <a:chExt cx="1369800" cy="1356120"/>
          </a:xfrm>
        </p:grpSpPr>
        <p:sp>
          <p:nvSpPr>
            <p:cNvPr id="101" name="AutoShape 8"/>
            <p:cNvSpPr/>
            <p:nvPr/>
          </p:nvSpPr>
          <p:spPr>
            <a:xfrm>
              <a:off x="7524720" y="20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 rot="2241600">
              <a:off x="7524360" y="20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428400" y="2018880"/>
            <a:ext cx="1369800" cy="1356120"/>
            <a:chOff x="428400" y="2018880"/>
            <a:chExt cx="1369800" cy="1356120"/>
          </a:xfrm>
        </p:grpSpPr>
        <p:sp>
          <p:nvSpPr>
            <p:cNvPr id="104" name="AutoShape 8"/>
            <p:cNvSpPr/>
            <p:nvPr/>
          </p:nvSpPr>
          <p:spPr>
            <a:xfrm>
              <a:off x="609480" y="2228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 rot="2241600">
              <a:off x="609120" y="2228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590560" y="123480"/>
            <a:ext cx="1369800" cy="1356120"/>
            <a:chOff x="2590560" y="123480"/>
            <a:chExt cx="1369800" cy="1356120"/>
          </a:xfrm>
        </p:grpSpPr>
        <p:sp>
          <p:nvSpPr>
            <p:cNvPr id="107" name="AutoShape 8"/>
            <p:cNvSpPr/>
            <p:nvPr/>
          </p:nvSpPr>
          <p:spPr>
            <a:xfrm>
              <a:off x="2771640" y="33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 rot="2241600">
              <a:off x="2771280" y="33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09" name="TextBox 1"/>
          <p:cNvSpPr/>
          <p:nvPr/>
        </p:nvSpPr>
        <p:spPr>
          <a:xfrm>
            <a:off x="1265400" y="4508640"/>
            <a:ext cx="66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entury"/>
              </a:rPr>
              <a:t>БЕРЕГИТЕ ЗРЕНИЕ!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Admin</cp:lastModifiedBy>
  <dcterms:modified xsi:type="dcterms:W3CDTF">2021-11-23T18:34:54Z</dcterms:modified>
  <cp:revision>30</cp:revision>
  <dc:subject/>
  <dc:title>Слайд 1</dc:title>
</cp:coreProperties>
</file>